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70DC-1429-495F-8546-1084BC59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93F2-EA47-43B8-9296-FF7FDE0B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CC9-BFB2-41D5-B0D1-95E57FB7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CCB-C769-4BD9-ADE9-8A6D9F01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E976-CBC7-4B0E-9051-666A8611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9D18-63AF-4DA6-A7F2-A83F89F3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F05-7755-47A4-A9EB-D6FB5481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33F3-B6C0-4B95-84CE-CAB007D5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45C-E86D-4710-91D0-F0B1C29F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DA9-4B13-4625-8488-921D92BE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9941-44C3-4A53-8352-412532FF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3D5B-1BA7-4338-AFEC-C4F9B90B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8C1C-CBD0-475D-A695-5C9051B81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13880" y="3005280"/>
            <a:ext cx="79297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arfar Brush"/>
              </a:rPr>
              <a:t>TÄVLINGSÅRET 200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13880" y="3005280"/>
            <a:ext cx="79297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arfar Brush"/>
              </a:rPr>
              <a:t>WE RUL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00000" y="2060640"/>
            <a:ext cx="4073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adeGothic"/>
              </a:rPr>
              <a:t>Tävlingar: </a:t>
            </a:r>
            <a:r>
              <a:rPr b="0" lang="en-US" sz="2500" spc="-1" strike="noStrike">
                <a:solidFill>
                  <a:srgbClr val="000000"/>
                </a:solidFill>
                <a:latin typeface="TradeGothic"/>
              </a:rPr>
              <a:t>1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adeGothic"/>
              </a:rPr>
              <a:t>Inskick: </a:t>
            </a:r>
            <a:r>
              <a:rPr b="0" lang="en-US" sz="2500" spc="-1" strike="noStrike">
                <a:solidFill>
                  <a:srgbClr val="000000"/>
                </a:solidFill>
                <a:latin typeface="TradeGothic"/>
              </a:rPr>
              <a:t>6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adeGothic"/>
              </a:rPr>
              <a:t>Inskickade kampanjer: </a:t>
            </a:r>
            <a:r>
              <a:rPr b="0" lang="en-US" sz="2500" spc="-1" strike="noStrike">
                <a:solidFill>
                  <a:srgbClr val="000000"/>
                </a:solidFill>
                <a:latin typeface="TradeGothic"/>
              </a:rPr>
              <a:t>1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adeGothic"/>
              </a:rPr>
              <a:t>Nominerade kampanjer: </a:t>
            </a:r>
            <a:r>
              <a:rPr b="0" lang="en-US" sz="2500" spc="-1" strike="noStrike">
                <a:solidFill>
                  <a:srgbClr val="000000"/>
                </a:solidFill>
                <a:latin typeface="TradeGothic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adeGothic"/>
              </a:rPr>
              <a:t>Belönade kampanjer: </a:t>
            </a:r>
            <a:r>
              <a:rPr b="0" lang="en-US" sz="2500" spc="-1" strike="noStrike">
                <a:solidFill>
                  <a:srgbClr val="000000"/>
                </a:solidFill>
                <a:latin typeface="TradeGothic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adeGothic"/>
              </a:rPr>
              <a:t>Nomineringar: </a:t>
            </a:r>
            <a:r>
              <a:rPr b="0" lang="en-US" sz="2500" spc="-1" strike="noStrike">
                <a:solidFill>
                  <a:srgbClr val="000000"/>
                </a:solidFill>
                <a:latin typeface="TradeGothic"/>
              </a:rPr>
              <a:t>5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radeGothic"/>
              </a:rPr>
              <a:t>Vinster: </a:t>
            </a:r>
            <a:r>
              <a:rPr b="0" lang="en-US" sz="2500" spc="-1" strike="noStrike">
                <a:solidFill>
                  <a:srgbClr val="000000"/>
                </a:solidFill>
                <a:latin typeface="TradeGothic"/>
              </a:rPr>
              <a:t>3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427640" y="1989000"/>
          <a:ext cx="3778200" cy="24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989000"/>
                    <a:ext cx="377820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260360" y="1989000"/>
          <a:ext cx="3527640" cy="2492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60360" y="1989000"/>
                    <a:ext cx="352764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793880" y="162864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mineringspro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10160" y="162864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nstpro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2515680" y="4365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7,2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5870160" y="43797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,9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79280" y="836640"/>
          <a:ext cx="10009440" cy="44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10009440" cy="44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ktangel 4"/>
          <p:cNvSpPr/>
          <p:nvPr/>
        </p:nvSpPr>
        <p:spPr>
          <a:xfrm>
            <a:off x="1092240" y="5013360"/>
            <a:ext cx="751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adeGothic"/>
              </a:rPr>
              <a:t>D&amp;AD        Webbys   Guldägget    OneShow     Clio          Cannes       Cresta          LIAA          Epica       Eurobest     Mérib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33880" y="1484280"/>
            <a:ext cx="393048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000000"/>
                </a:solidFill>
                <a:latin typeface="TradeGothic"/>
              </a:rPr>
              <a:t>  </a:t>
            </a:r>
            <a:r>
              <a:rPr b="1" lang="sv-SE" sz="3000" spc="-1" strike="noStrike">
                <a:solidFill>
                  <a:srgbClr val="000000"/>
                </a:solidFill>
                <a:latin typeface="TradeGothic"/>
              </a:rPr>
              <a:t>5 Grand pri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000000"/>
                </a:solidFill>
                <a:latin typeface="TradeGothic"/>
              </a:rPr>
              <a:t>14 Gu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000000"/>
                </a:solidFill>
                <a:latin typeface="TradeGothic"/>
              </a:rPr>
              <a:t>  </a:t>
            </a:r>
            <a:r>
              <a:rPr b="1" lang="sv-SE" sz="3000" spc="-1" strike="noStrike">
                <a:solidFill>
                  <a:srgbClr val="000000"/>
                </a:solidFill>
                <a:latin typeface="TradeGothic"/>
              </a:rPr>
              <a:t>5 Silv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000000"/>
                </a:solidFill>
                <a:latin typeface="TradeGothic"/>
              </a:rPr>
              <a:t>  </a:t>
            </a:r>
            <a:r>
              <a:rPr b="1" lang="sv-SE" sz="3000" spc="-1" strike="noStrike">
                <a:solidFill>
                  <a:srgbClr val="000000"/>
                </a:solidFill>
                <a:latin typeface="TradeGothic"/>
              </a:rPr>
              <a:t>7 Br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000" spc="-1" strike="noStrike">
                <a:solidFill>
                  <a:srgbClr val="000000"/>
                </a:solidFill>
                <a:latin typeface="TradeGothic"/>
              </a:rPr>
              <a:t>24 Nominering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76000" y="1773360"/>
            <a:ext cx="63054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adeGothic"/>
              </a:rPr>
              <a:t>HEIDIES:</a:t>
            </a:r>
            <a:r>
              <a:rPr b="0" lang="en-US" sz="2000" spc="-1" strike="noStrike">
                <a:solidFill>
                  <a:srgbClr val="000000"/>
                </a:solidFill>
                <a:latin typeface="TradeGothic"/>
              </a:rPr>
              <a:t> 4 grand prix, 4 guld, 3 silver, 2 brons, 2 n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adeGothic"/>
              </a:rPr>
              <a:t>BJÖRN BORG:</a:t>
            </a:r>
            <a:r>
              <a:rPr b="0" lang="en-US" sz="2000" spc="-1" strike="noStrike">
                <a:solidFill>
                  <a:srgbClr val="000000"/>
                </a:solidFill>
                <a:latin typeface="TradeGothic"/>
              </a:rPr>
              <a:t> 1 grand prix, 1 gu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adeGothic"/>
              </a:rPr>
              <a:t>STHLM BANNER:</a:t>
            </a:r>
            <a:r>
              <a:rPr b="0" lang="en-US" sz="2000" spc="-1" strike="noStrike">
                <a:solidFill>
                  <a:srgbClr val="000000"/>
                </a:solidFill>
                <a:latin typeface="TradeGothic"/>
              </a:rPr>
              <a:t> 5 guld, 2 n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adeGothic"/>
              </a:rPr>
              <a:t>GREAT POCKETS:</a:t>
            </a:r>
            <a:r>
              <a:rPr b="0" lang="en-US" sz="2000" spc="-1" strike="noStrike">
                <a:solidFill>
                  <a:srgbClr val="000000"/>
                </a:solidFill>
                <a:latin typeface="TradeGothic"/>
              </a:rPr>
              <a:t> 1 guld, 2 silver, 2 brons, 8 n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adeGothic"/>
              </a:rPr>
              <a:t>INTERNET WALK:</a:t>
            </a:r>
            <a:r>
              <a:rPr b="0" lang="en-US" sz="2000" spc="-1" strike="noStrike">
                <a:solidFill>
                  <a:srgbClr val="000000"/>
                </a:solidFill>
                <a:latin typeface="TradeGothic"/>
              </a:rPr>
              <a:t> 1 guld, 1 brons, 4 n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adeGothic"/>
              </a:rPr>
              <a:t>FESTMETODEN:</a:t>
            </a:r>
            <a:r>
              <a:rPr b="0" lang="en-US" sz="2000" spc="-1" strike="noStrike">
                <a:solidFill>
                  <a:srgbClr val="000000"/>
                </a:solidFill>
                <a:latin typeface="TradeGothic"/>
              </a:rPr>
              <a:t> 1 guld, 1 br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adeGothic"/>
              </a:rPr>
              <a:t>STHLM THE MUSICAL:</a:t>
            </a:r>
            <a:r>
              <a:rPr b="0" lang="en-US" sz="2000" spc="-1" strike="noStrike">
                <a:solidFill>
                  <a:srgbClr val="000000"/>
                </a:solidFill>
                <a:latin typeface="TradeGothic"/>
              </a:rPr>
              <a:t> 1 guld, 3 n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adeGothic"/>
              </a:rPr>
              <a:t>SJ PRIO:</a:t>
            </a:r>
            <a:r>
              <a:rPr b="0" lang="en-US" sz="2000" spc="-1" strike="noStrike">
                <a:solidFill>
                  <a:srgbClr val="000000"/>
                </a:solidFill>
                <a:latin typeface="TradeGothic"/>
              </a:rPr>
              <a:t> 1 brons, 1 n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adeGothic"/>
              </a:rPr>
              <a:t>PJOTRO:</a:t>
            </a:r>
            <a:r>
              <a:rPr b="0" lang="en-US" sz="2000" spc="-1" strike="noStrike">
                <a:solidFill>
                  <a:srgbClr val="000000"/>
                </a:solidFill>
                <a:latin typeface="TradeGothic"/>
              </a:rPr>
              <a:t> 4 n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339640" y="1412640"/>
            <a:ext cx="576108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0000"/>
                </a:solidFill>
                <a:latin typeface="TradeGothic"/>
              </a:rPr>
              <a:t>  </a:t>
            </a:r>
            <a:r>
              <a:rPr b="1" lang="sv-SE" sz="2400" spc="-1" strike="noStrike">
                <a:solidFill>
                  <a:srgbClr val="000000"/>
                </a:solidFill>
                <a:latin typeface="TradeGothic"/>
              </a:rPr>
              <a:t>Dessuto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1:a på Gunn repor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Most inspiring campaign i Spani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3 Vinster i månadens web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3 FWA Site of the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1 FWA Site of the mon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 </a:t>
            </a: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Nominerade till Trendpris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Vad har jag glöm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4000" y="1239840"/>
            <a:ext cx="828036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adeGothic"/>
              </a:rPr>
              <a:t>Världens mest belönade webbkampanjer 2007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adeGothic"/>
              </a:rPr>
              <a:t>01.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     NIKE • Nike+ • R/GA (New York) 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1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adeGothic"/>
              </a:rPr>
              <a:t>02.     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IKEA • Come Into The Closet • Forsman &amp; Bodenfors (Gothenburg) 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          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VOLKSWAGEN GTI • GTI Features 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• 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Crispin Porter &amp; Bogusky (Miami) 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adeGothic"/>
              </a:rPr>
              <a:t>04.     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NIKE • The Chain • Framfab (Copenhagen) 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adeGothic"/>
              </a:rPr>
              <a:t>05.     VISIT SWEDEN TOURISM • Stockholm The Musical • Farfar (Stockholm) </a:t>
            </a:r>
            <a:r>
              <a:rPr b="1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radeGothic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adeGothic"/>
              </a:rPr>
              <a:t>06.     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DOVE SELF ESTEEM FUND • Evolution • Ogilvy &amp; Mather (Toronto) 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500" spc="-1" strike="noStrike">
                <a:solidFill>
                  <a:srgbClr val="000000"/>
                </a:solidFill>
                <a:latin typeface="TradeGothic"/>
              </a:rPr>
              <a:t>07.     DIESEL UNDERWEAR • Heidies 15mb Of Fame </a:t>
            </a:r>
            <a:r>
              <a:rPr b="1" lang="en-US" sz="1500" spc="-1" strike="noStrike">
                <a:solidFill>
                  <a:srgbClr val="000000"/>
                </a:solidFill>
                <a:latin typeface="TradeGothic"/>
              </a:rPr>
              <a:t>• </a:t>
            </a:r>
            <a:r>
              <a:rPr b="1" lang="sv-SE" sz="1500" spc="-1" strike="noStrike">
                <a:solidFill>
                  <a:srgbClr val="000000"/>
                </a:solidFill>
                <a:latin typeface="TradeGothic"/>
              </a:rPr>
              <a:t>Farfar (Stockholm) </a:t>
            </a:r>
            <a:r>
              <a:rPr b="1" lang="sv-SE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1" lang="sv-SE" sz="1500" spc="-1" strike="noStrike">
                <a:solidFill>
                  <a:srgbClr val="000000"/>
                </a:solidFill>
                <a:latin typeface="TradeGothic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500" spc="-1" strike="noStrike">
                <a:solidFill>
                  <a:srgbClr val="000000"/>
                </a:solidFill>
                <a:latin typeface="TradeGothic"/>
              </a:rPr>
              <a:t>08.     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MICROSOFT XBOX 360 • Big Shadow 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• 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GT (Tokyo) 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adeGothic"/>
              </a:rPr>
              <a:t>09.     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PHILIPS BODYGROOM • Philips Bodygroom • Tribal DDB (New York) 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500" spc="-1" strike="noStrike">
                <a:solidFill>
                  <a:srgbClr val="000000"/>
                </a:solidFill>
                <a:latin typeface="TradeGothic"/>
              </a:rPr>
              <a:t>10.     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VOLVO XC90 • The Hunt Euro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 •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 RSCG 4D (Amsterdam) 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500" spc="-1" strike="noStrike">
                <a:solidFill>
                  <a:srgbClr val="000000"/>
                </a:solidFill>
                <a:latin typeface="TradeGothic"/>
              </a:rPr>
              <a:t>11.     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VOLKSWAGEN JETTA • Safe Happens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 •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 Crispin Porter &amp; Bogusky (Miami) 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adeGothic"/>
              </a:rPr>
              <a:t>12.     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MICROSOFT • Clearification • McCann Worldgroup (San Francisco) 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adeGothic"/>
              </a:rPr>
              <a:t>13.     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JONATHAN YUEN • Jonathan Yuen (Singapore) 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radeGothic"/>
              </a:rPr>
              <a:t>14.     SWEDISH ALCOHOL COMMITTEE • How To Party Farfar (Stockholm) </a:t>
            </a:r>
            <a:r>
              <a:rPr b="1" lang="en-US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TradeGothic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500" spc="-1" strike="noStrike">
                <a:solidFill>
                  <a:srgbClr val="000000"/>
                </a:solidFill>
                <a:latin typeface="TradeGothic"/>
              </a:rPr>
              <a:t>15.     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VOLKSWAGEN RABBIT • Rabbit Breeding </a:t>
            </a:r>
            <a:r>
              <a:rPr b="0" lang="en-US" sz="1500" spc="-1" strike="noStrike">
                <a:solidFill>
                  <a:srgbClr val="000000"/>
                </a:solidFill>
                <a:latin typeface="TradeGothic"/>
              </a:rPr>
              <a:t>• 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Crispin Porter &amp; Bogusky (Miami) 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	</a:t>
            </a:r>
            <a:r>
              <a:rPr b="0" lang="sv-SE" sz="1500" spc="-1" strike="noStrike">
                <a:solidFill>
                  <a:srgbClr val="000000"/>
                </a:solidFill>
                <a:latin typeface="TradeGothic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32000" y="2205000"/>
            <a:ext cx="66247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     </a:t>
            </a:r>
            <a:r>
              <a:rPr b="1" lang="sv-SE" sz="2400" spc="-1" strike="noStrike">
                <a:solidFill>
                  <a:srgbClr val="000000"/>
                </a:solidFill>
                <a:latin typeface="TradeGothic"/>
              </a:rPr>
              <a:t>Sammanfatt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Nästan hälften av våra inskick vinner p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3 kampanjer på världens top 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radeGothic"/>
              </a:rPr>
              <a:t>Mest belönade digitala byrån i värl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r</cp:lastModifiedBy>
  <dcterms:modified xsi:type="dcterms:W3CDTF">2007-12-17T02:18:30Z</dcterms:modified>
  <cp:revision>36</cp:revision>
  <dc:subject/>
  <dc:title>Bild 1</dc:title>
</cp:coreProperties>
</file>